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C512F-3046-41D7-B73A-3E5E39434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EAEA4-54FF-48B8-8249-97C8EB3E2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3FDD0-8829-492E-9EBC-0943A9E8E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762BB-BAB7-4654-A021-E3739EDF6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F0A104B-50FD-487E-AFD4-2515421C6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F53299-6A08-49AD-AEF9-8F2854BAB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D2ADD4-0D0A-404F-BC7E-994DF9794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8D00A0-2B10-4F6E-B4E7-5620DCC3F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E9B85E-123B-41B1-BEC9-390B87B4B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81BF81-983A-42F6-95B3-20CEB30C7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C72962-336C-4111-A44C-CFD9AED21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F9AC6-D561-47CB-9A72-5CFB5A341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129F1B-46FB-422E-8266-C8D4F2556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7C0E8F-F317-4E36-960F-DD769338C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67F4E3-2B77-4DC7-B313-55CE54646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D196AF0-15DD-4A74-A5E9-63C7FF72D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BA37030-7BAE-4FD5-8714-C2E655F69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B7C28-AE1F-46A2-A72D-7A5D4A484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4F1AA-6173-49DA-B4D6-24B07210D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5C81E-44C1-4E40-919D-50C6C92DF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EEB87-0B53-4F7B-A1F6-1D1F94841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1E1BA-274A-4F6D-B68D-5D6AACFE2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BB32-1CAF-4A23-8FBA-CCD0537C6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9A149-4E18-4DA0-AEC1-0D0D69373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4B9C-C90F-4693-BEAD-EB94B8018C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D435-4E2E-4FC4-AA49-C13A5D59E5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josephguadagno.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Desert Code Camp</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864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jax Enabling a Web site using AjaxPro.NET</a:t>
            </a:r>
            <a:endParaRPr b="0" lang="en-US" sz="3200" spc="-1" strike="noStrike">
              <a:solidFill>
                <a:srgbClr val="ffffff"/>
              </a:solidFill>
              <a:latin typeface="Arial"/>
            </a:endParaRPr>
          </a:p>
        </p:txBody>
      </p:sp>
      <p:sp>
        <p:nvSpPr>
          <p:cNvPr id="124" name=""/>
          <p:cNvSpPr/>
          <p:nvPr/>
        </p:nvSpPr>
        <p:spPr>
          <a:xfrm>
            <a:off x="380880" y="4800600"/>
            <a:ext cx="830592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seph Guadagno</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
              </a:rPr>
              <a:t>http://www.josephguadagno.net</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s@josephguadagno.n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nks</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Developer Toolbar </a:t>
            </a:r>
            <a:r>
              <a:rPr b="0" lang="en-US" sz="2000" spc="-1" strike="noStrike">
                <a:solidFill>
                  <a:srgbClr val="ffffff"/>
                </a:solidFill>
                <a:latin typeface="Wingdings"/>
                <a:ea typeface="Wingdings"/>
              </a:rPr>
              <a:t></a:t>
            </a:r>
            <a:r>
              <a:rPr b="0" lang="en-US" sz="2000" spc="-1" strike="noStrike">
                <a:solidFill>
                  <a:srgbClr val="ffffff"/>
                </a:solidFill>
                <a:latin typeface="Arial"/>
              </a:rPr>
              <a:t> </a:t>
            </a:r>
            <a:r>
              <a:rPr b="0" lang="en-US" sz="1600" spc="-1" strike="noStrike">
                <a:solidFill>
                  <a:srgbClr val="ffffff"/>
                </a:solidFill>
                <a:latin typeface="Arial"/>
              </a:rPr>
              <a:t>http://www.microsoft.com/downloads/details.aspx?FamilyID=E59C3964-672D-4511-BB3E-2D5E1DB91038&amp;displaylang=en</a:t>
            </a:r>
            <a:endParaRPr b="0" lang="en-US" sz="1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Developer’s Network (http://msdn.microsoft.co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zilla / Firefox Developers Center (http://www.mozilla.org/develope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jaxPro.NET Support Group (http://groups.google.com/group/ajaxpro?lnk=l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Ajax – Google Group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jax World (http://groups.google.com/group/ajax-worl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jax-Web-Technology (http://groups.google.com/group/ajax-web-technolog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Questions</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quirements</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 1.1</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B.NET (possib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vaScrip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HTM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jaxPro.NET Library (http://www.ajaxpro.inf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will be covered</a:t>
            </a: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jax?</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HttpRequest Objec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HTML (DHTM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 the dynamic web s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Quick Comments</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ried to make the demos somewhat usefu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mos build upon each oth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I is not the best but pretty g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probably a better way to do some of the JavaScript func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cover the business objects created (unless ask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Ajax</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synchronous JavaScript and XML (AJAX)</a:t>
            </a:r>
            <a:r>
              <a:rPr b="0" i="1" lang="en-US" sz="2400" spc="-1" strike="noStrike">
                <a:solidFill>
                  <a:srgbClr val="ffffff"/>
                </a:solidFill>
                <a:latin typeface="Arial"/>
              </a:rPr>
              <a:t> is not a technology in itself, but is a term that describes a "new" approach to using a number of existing technologies together, including: HTML or XHTML, Cascading Style Sheets, JavaScript, The Document Object Model, XML, XSLT, and the XMLHttpRequest object. When these technologies are combined in the AJAX model, web applications are able to make quick, incremental updates to the user interface without reloading the entire browser page. This makes the application faster and more responsive to user ac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XMLHttpRequest</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TTP Response that returns an XML docu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 Site (http://jibbering.com/2002/4/httprequest.ht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asic Steps</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the reference to AjaxPro.D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ster the page for AjaxPro.NET</a:t>
            </a:r>
            <a:endParaRPr b="0" lang="en-US" sz="3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jaxPro.Utility.RegisterTypeForAjax(typeof(Namespace.class));</a:t>
            </a:r>
            <a:endParaRPr b="0" lang="en-US" sz="20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AjaxMethod attribute to the metho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jaxPro.AjaxMethod()]</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JavaScript function to call the metho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al – Create the call back fun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avaScript Functions</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Functi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rPr>
              <a:t>function LoadLis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rPr>
              <a:t>	</a:t>
            </a:r>
            <a:r>
              <a:rPr b="0" lang="en-US" sz="3200" spc="-1" strike="noStrike">
                <a:solidFill>
                  <a:srgbClr val="ffffff"/>
                </a:solidFill>
                <a:latin typeface="Courier New"/>
              </a:rPr>
              <a:t>Namespace.Class.Method(param1, param2, function_callback);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urier New"/>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lback Function</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allback we told Ajax.Net to pass the response to</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function Function_CallBack(response)</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the server side code threw an exception</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response.error != null)</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isplayError(response.error, "LoadEngagementTeams");</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urn;</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var teams = response.value;  </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the response wasn't what we expected  </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teams == null || typeof(teams) != "object")</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var Message = "An unexpected error happened retrieving the teams list";</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isplayError (Message, "LoadEngagementTeams");</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or (var i = 0; i &lt; oTeamList.Rows.length; ++i)</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ontrol.options[oControl.options.length] = new Option(oTeamList.Rows[i].team, oTeamList.Rows[i].team);       </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hideIndicator();</a:t>
            </a:r>
            <a:endParaRPr b="0" lang="en-US" sz="1200" spc="-1" strike="noStrike">
              <a:solidFill>
                <a:srgbClr val="ffffff"/>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5T05:46:20Z</dcterms:created>
  <dc:creator>Joseph J Guadagno</dc:creator>
  <dc:description/>
  <dc:language>en-US</dc:language>
  <cp:lastModifiedBy>Joseph J Guadagno</cp:lastModifiedBy>
  <dcterms:modified xsi:type="dcterms:W3CDTF">2006-05-03T01:36:04Z</dcterms:modified>
  <cp:revision>12</cp:revision>
  <dc:subject>Desert Code Camp</dc:subject>
  <dc:title>Ajax Enabling a Web Site using AjaxPro.NET</dc:title>
</cp:coreProperties>
</file>